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7E25-0FD2-4D75-9817-7BD39974F4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D378-52F4-4E37-96C6-197B99A54ADE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4F1F-D22F-4481-8380-BDC41496043A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6A03-16FF-476C-98BF-05E144641402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7584-C45D-4164-95B9-4D64F50450E8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31FC-C89D-40AA-9E20-91939345E3B4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0E4A-BA11-4D44-A190-E04019C810BE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3454-7608-4129-A518-A284519C020B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2E99-F773-4542-958E-00A609D4EB56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4896-2FAF-42E0-8750-CDFEA8016A13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079D-44DD-4617-A190-E922FF3E21AD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3AE4-47D0-426B-96F4-2110F70AA4ED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4479-C876-4375-961A-0B81452E2FD8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88CE-BF9E-4DF8-A321-F048977EB82C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31AE-26A7-448C-BF26-DD9AAEFAEA4E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52E5-91F4-41B0-821D-FD97F47D6112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FCF8-265D-4C47-8D68-8AA8B1C096C8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40A8-A05F-4B40-B5BD-9D15EAFEA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4804-66F0-4810-93F1-3C101B52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6F31-A86E-4733-BFC6-7F93E9B99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1062-A742-48A5-B18F-522AD96EB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AFE1-BBBD-487D-9074-70F973BFE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08E8-3D32-4932-A604-C5229F2C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7162-29C0-4308-8B32-A9A571F8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D537-F1D4-4712-A52B-F47C5978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F112-160A-4358-A9A6-7BF49910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8FD7-3EF7-4007-9CAC-3820F87A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6D01-2D2B-4836-96A3-0EB73240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F066-5FB1-45C5-8D12-0670FDFE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F5F2-8A9A-480C-A50B-AE00CBAF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A5D2-DAAB-4E92-984D-BAC07561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19AB-6900-4FBC-99C9-4EBF72A0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B130-1560-4686-B5A0-ABDAE728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71A4-7EA8-47C5-8D77-0B3A01C57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A3C8-6D6B-4A31-9764-E5F2ABA8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87F8-9DE8-4CF9-9C65-86E7199A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D924-0EC1-4CDA-82ED-4A7F61D5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3F17-FA89-423D-9BBE-5F3B7A85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A302-0ADD-4048-B133-2E9C0A98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3539-E07D-4B7D-9CF7-8887DCBC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A007-E0D9-492B-A025-5D3C2A0F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D01D-CDDD-4085-9588-250DB8F886D2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DDAA-93BB-4B11-8920-4F6BD0ED8D4A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Dirt, hygiene, defec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1752480" y="0"/>
            <a:ext cx="5867640" cy="88390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2193840" y="299088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rm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820520" cy="68724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228600" y="5867280"/>
            <a:ext cx="255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anglades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-380880" y="11160"/>
            <a:ext cx="9905760" cy="6835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897840" y="324000"/>
            <a:ext cx="208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nglades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o to who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t little baby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lover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neighbor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n unknown person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cow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dog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o to who? (ctd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neighbor’s dog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dog to a do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dog to a child (Turkana exampl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nclusion: undesired intimacy (cf. sexual harassment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orts of hygien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dic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oci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or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ligious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nt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esthetics, not microbes” (Krus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Why is study of defecation relevant?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veryday charact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idden charact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ncultur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ature / Nurture (“nature’s call”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oretical relevance (window on cultur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lation to health (regular, normal stool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iagnostic valu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levance to public healt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Quotation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“ …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nderlying motivations for domestic hygiene … lie not in the avoidance of specific diseases, but in subtler social forces.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Valerie Curtis 1998: 11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nd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ecause hygiene is a complex idea that embodies a number of social values, clarity has often been missing, both in the understanding of how hygiene relates to health, and in the conception and execution of hygiene education programmes.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Valerie Curtis 1998: 11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Dirt: disord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“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irt is the evidence of the imperfections of life.” (MacLaughlin in Curtis 1998: 13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“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irt is matter out of place.” (Douglas 1966) i.e. dirt is an invitation to restore order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Nothing is dirt by itself; its use and place make it dirty…. But what about (human) feces????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atter out of plac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ultural reasons (e.g. right/left hand, dress, spitting, grasshoppers, hand in food…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ocial reasons: who does what to who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o understand the social dimension: let us take the example of defecation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975240" y="54514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ngladesh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457200" y="171360"/>
            <a:ext cx="28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ilippin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8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1371600" y="-685800"/>
            <a:ext cx="6338880" cy="83818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1447920" y="228600"/>
            <a:ext cx="18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Keny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-304920" y="0"/>
            <a:ext cx="10058400" cy="69008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1050840" y="176040"/>
            <a:ext cx="151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pal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12:06:35Z</dcterms:created>
  <dc:creator>BU</dc:creator>
  <dc:description/>
  <dc:language>en-US</dc:language>
  <cp:lastModifiedBy>Owner</cp:lastModifiedBy>
  <dcterms:modified xsi:type="dcterms:W3CDTF">2013-11-18T12:50:44Z</dcterms:modified>
  <cp:revision>7</cp:revision>
  <dc:subject/>
  <dc:title>Dirt, hygiene, defecation</dc:title>
</cp:coreProperties>
</file>